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8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4139EF-E33C-4F07-AB5B-F14C3BA36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055-4731-4B69-9639-74932592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7BE-1E10-41A3-9ECC-F5E2923F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159-5E3B-499B-96AA-B8061961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F6C-57AA-4B9A-8EA1-A0F78749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835A1-F3C8-4BC5-82CB-535F0FA9F6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38543-3414-45EB-8638-5AB37453DB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CCD78-D9B9-4716-BE47-157BEC7F42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B7771-089E-433E-8440-55D183B988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B9BA9-CC3F-4130-968F-82772D7787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8E4C8-FB55-452D-BCFA-E12618E2E5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3209E-7F78-4734-B08A-F03561DAAC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717-1C3E-4342-9FDC-01F8B6B0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AC025-9EDE-466E-8077-C6D4367D98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8EFBD-E1DC-49AF-8655-A6AC7CEB8E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8EF09-E7D8-4E39-81E6-8300D31FD1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B40C0-081A-47FE-9932-D6AB2A0E83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0EC69-99CE-4ED1-949E-3AAE65FDA0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0E8986-0F90-401D-B1A7-9403761B72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FF7E1-B50D-464A-97AE-213D0747EE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9BDAF-5BC1-42ED-89DA-2F5D2D33FD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A53074-D5F7-43B4-840D-9746D5F355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99C817-D501-4820-B82E-F3EBBAA5CD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1DD-8F9E-41B0-AC1F-0918E07F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3A1566-AE35-4690-9C14-793F5B63D5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3DD8B-6D21-43B6-98D5-7FB7E2BD70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584025-2179-4AA4-B63D-6155302B6C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DCC18-61E0-4F2D-9AF3-B93A841C2B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518E2B-7AA4-42C1-8965-22A2DB33CE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7A7ABE-E188-4D4C-9780-CADC40E911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8F4D64-B5E5-48E5-855E-7A64CDA14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221-5497-4D33-B800-6E9FD3FD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CA6-4189-4BEA-9C5E-4726B34A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B24-3675-4946-ABD7-AFCBCC16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53C-6F88-4DE8-8E4D-61FCFA37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020-FE03-49F1-9E55-107B8E0B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B0B-90A1-4D58-98C8-0805BAB8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5006-2E38-48F7-AC37-DACF43315478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7FD8-3AC1-40ED-8914-BD23EDDBFCAC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7D6A-DEE7-4524-B679-7F13A2C3F9C5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320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Legion</cp:lastModifiedBy>
  <dcterms:modified xsi:type="dcterms:W3CDTF">2017-01-26T10:08:36Z</dcterms:modified>
  <cp:revision>33</cp:revision>
  <dc:subject/>
  <dc:title>Hydrogen in the Milky Way</dc:title>
</cp:coreProperties>
</file>